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.png" ContentType="image/png"/>
  <Override PartName="/ppt/media/image26.png" ContentType="image/png"/>
  <Override PartName="/ppt/media/image2.jpeg" ContentType="image/jpeg"/>
  <Override PartName="/ppt/media/image24.wmf" ContentType="image/x-wmf"/>
  <Override PartName="/ppt/media/image23.png" ContentType="image/png"/>
  <Override PartName="/ppt/media/image22.png" ContentType="image/png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FAE2-C27C-4BD5-930D-07CF0D7D9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6EC8-9037-4144-8CBB-870B20F55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B0A5-EDF6-4B2C-AE0C-92C52478C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915D-4B52-44C2-B702-9342D4034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1E9B-7B56-41C7-ACC0-E21C01428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550A-2F02-4099-B634-C86E78C1D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A34F-7526-4B18-B06F-0A2B6DF67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B1FC-23DC-4B2B-A559-F7F65FB7E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8747-63D3-4D1D-AAC2-BB6BE6BE8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0795-D355-45BD-AFB0-56E6E0AD7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73D0-6544-4931-B0C8-80899D43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A903-B9E5-4B42-B32A-AB6CE54E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CEBA5-083C-4DC9-9B49-E1A7845287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Биологический катализ. Фермент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cover_14"/>
          <p:cNvPicPr/>
          <p:nvPr/>
        </p:nvPicPr>
        <p:blipFill>
          <a:blip r:embed="rId1"/>
          <a:stretch/>
        </p:blipFill>
        <p:spPr>
          <a:xfrm>
            <a:off x="3132000" y="2205000"/>
            <a:ext cx="2882880" cy="35290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6"/>
          <p:cNvSpPr/>
          <p:nvPr/>
        </p:nvSpPr>
        <p:spPr>
          <a:xfrm>
            <a:off x="1332000" y="5805360"/>
            <a:ext cx="64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«Алиса в стране чудес», иллюстрация John Tenniel,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The Nursery Alice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. (Mary Evans Picture Library, London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E19A6-EB09-45B9-87E2-2493A09156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Трансферазы</a:t>
            </a:r>
            <a:r>
              <a:rPr b="0" lang="ru-RU" sz="3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"/>
          <p:cNvSpPr/>
          <p:nvPr/>
        </p:nvSpPr>
        <p:spPr>
          <a:xfrm>
            <a:off x="539640" y="90792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0" y="27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12"/>
          <p:cNvSpPr/>
          <p:nvPr/>
        </p:nvSpPr>
        <p:spPr>
          <a:xfrm>
            <a:off x="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98" name="Object 11"/>
          <p:cNvGraphicFramePr/>
          <p:nvPr/>
        </p:nvGraphicFramePr>
        <p:xfrm>
          <a:off x="395280" y="1268280"/>
          <a:ext cx="8569440" cy="220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268280"/>
                    <a:ext cx="8569440" cy="22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Rectangle 13"/>
          <p:cNvSpPr/>
          <p:nvPr/>
        </p:nvSpPr>
        <p:spPr>
          <a:xfrm>
            <a:off x="607320" y="3748680"/>
            <a:ext cx="46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Где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SAM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–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-аденозил-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L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-метионин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20BF7-A41F-4B14-BDF5-6C2451D9AC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Трансферазы</a:t>
            </a:r>
            <a:r>
              <a:rPr b="0" lang="ru-RU" sz="3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3"/>
          <p:cNvSpPr/>
          <p:nvPr/>
        </p:nvSpPr>
        <p:spPr>
          <a:xfrm>
            <a:off x="539640" y="90792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0" y="27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468360" y="1056960"/>
            <a:ext cx="842472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2.1. – переносчики одно-углеродной группы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2.2. – переносчики карбонильных функций 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2.3. – ацетилтрансферазы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2.4. – гликозилтрансферазы 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2.5. – переносчики алкильных (кроме метильных) и арильных групп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2.6. – переносчики азотистых функций 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2.7. – переносчики фосфор-содержащих групп 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2.8. – переносчики серу-содержащих функций 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2.9. – переносчики селен-содержащих групп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1A35F-0C4F-4DC7-A15E-641E5BEA91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Трансферазы</a:t>
            </a:r>
            <a:r>
              <a:rPr b="0" lang="ru-RU" sz="3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"/>
          <p:cNvSpPr/>
          <p:nvPr/>
        </p:nvSpPr>
        <p:spPr>
          <a:xfrm>
            <a:off x="539640" y="90792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0" y="27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611280" y="1602720"/>
            <a:ext cx="8281800" cy="20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2.1. </a:t>
            </a: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– </a:t>
            </a: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трансферазы одноуглеродной группы 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2.1.1. </a:t>
            </a: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– </a:t>
            </a: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метилтрансфепразы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2.1.1.41. </a:t>
            </a: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– </a:t>
            </a: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стерол 24-С-метилтрансфераза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4AC85-D096-4AF6-9CBE-CB67AD56CA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Гидролазы</a:t>
            </a:r>
            <a:r>
              <a:rPr b="0" lang="ru-RU" sz="3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3"/>
          <p:cNvSpPr/>
          <p:nvPr/>
        </p:nvSpPr>
        <p:spPr>
          <a:xfrm>
            <a:off x="539640" y="90792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539640" y="1484280"/>
            <a:ext cx="820908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3300"/>
                </a:solidFill>
                <a:latin typeface="Arial"/>
              </a:rPr>
              <a:t>Протеазы</a:t>
            </a: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 –</a:t>
            </a: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 гидролизуют белки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3300"/>
                </a:solidFill>
                <a:latin typeface="Arial"/>
              </a:rPr>
              <a:t>Нуклеазы</a:t>
            </a: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 – </a:t>
            </a: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гидролизуют нуклеиновые кислоты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Специфические </a:t>
            </a:r>
            <a:r>
              <a:rPr b="1" i="1" lang="ru-RU" sz="2600" spc="-1" strike="noStrike">
                <a:solidFill>
                  <a:srgbClr val="ff3300"/>
                </a:solidFill>
                <a:latin typeface="Arial"/>
              </a:rPr>
              <a:t>эндонуклеазы</a:t>
            </a: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 (так называемые </a:t>
            </a:r>
            <a:r>
              <a:rPr b="1" i="1" lang="ru-RU" sz="2600" spc="-1" strike="noStrike">
                <a:solidFill>
                  <a:srgbClr val="ff3300"/>
                </a:solidFill>
                <a:latin typeface="Arial"/>
              </a:rPr>
              <a:t>рестриктазы</a:t>
            </a: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) </a:t>
            </a: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–</a:t>
            </a: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 разрывают полинуклеотиды по строго определенным последовательностям 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B4A9D-7CBA-4398-85F9-F5719739CB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Гидролазы</a:t>
            </a:r>
            <a:r>
              <a:rPr b="0" lang="ru-RU" sz="3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3"/>
          <p:cNvSpPr/>
          <p:nvPr/>
        </p:nvSpPr>
        <p:spPr>
          <a:xfrm>
            <a:off x="539640" y="90792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538200" y="1046880"/>
            <a:ext cx="8497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Е.С.3.1. – действуют на сложноэфирные связи, эстеразы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Е.С.3.2. – гликозилазы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Е.С.3.3. – действуют на простоэфирные связи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Е.С.3.4. – действуют на пептидные связи (пептид гидролазы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Е.С.3.5. – действуют на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–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N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вязи, кроме пептидных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Е.С.3.6. – действуют на ангидриды кислот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Е.С.3.7. – действуют на углерод-углеродные связи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Е.С.3.8. – действуют на связи с галогеном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Е.С.3.9. – действуют на связи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–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N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Е.С.3.10.– действуют на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–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N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вязи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Е.С.3.11.– действуют на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–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вязи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Е.С.3.12.– действуют на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–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вязи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Е.С.3.13.– действуют на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–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вязи.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171DC-BC17-4364-B78B-A71E736104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Гидролазы</a:t>
            </a:r>
            <a:r>
              <a:rPr b="0" lang="ru-RU" sz="3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"/>
          <p:cNvSpPr/>
          <p:nvPr/>
        </p:nvSpPr>
        <p:spPr>
          <a:xfrm>
            <a:off x="539640" y="90792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611280" y="1453680"/>
            <a:ext cx="835344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3.1 гидролазы действующие на сложноэфирную связь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3.1.1. гидролазы эфиров карбоновых кислот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3.1.1.1 карбоксилэстеразы 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876240" y="4329000"/>
            <a:ext cx="719424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Arial"/>
              </a:rPr>
              <a:t>RCOOR</a:t>
            </a:r>
            <a:r>
              <a:rPr b="0" lang="ru-RU" sz="3400" spc="-1" strike="noStrike" baseline="30000">
                <a:solidFill>
                  <a:srgbClr val="000099"/>
                </a:solidFill>
                <a:latin typeface="Arial"/>
              </a:rPr>
              <a:t>1 </a:t>
            </a:r>
            <a:r>
              <a:rPr b="0" lang="ru-RU" sz="3400" spc="-1" strike="noStrike">
                <a:solidFill>
                  <a:srgbClr val="000099"/>
                </a:solidFill>
                <a:latin typeface="Arial"/>
              </a:rPr>
              <a:t>+</a:t>
            </a:r>
            <a:r>
              <a:rPr b="0" lang="en-US" sz="3400" spc="-1" strike="noStrike">
                <a:solidFill>
                  <a:srgbClr val="000099"/>
                </a:solidFill>
                <a:latin typeface="Arial"/>
              </a:rPr>
              <a:t> H</a:t>
            </a:r>
            <a:r>
              <a:rPr b="0" lang="ru-RU" sz="34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000099"/>
                </a:solidFill>
                <a:latin typeface="Arial"/>
              </a:rPr>
              <a:t>O </a:t>
            </a:r>
            <a:r>
              <a:rPr b="0" lang="ru-RU" sz="3400" spc="-1" strike="noStrike">
                <a:solidFill>
                  <a:srgbClr val="000099"/>
                </a:solidFill>
                <a:latin typeface="Arial"/>
              </a:rPr>
              <a:t> =  </a:t>
            </a:r>
            <a:r>
              <a:rPr b="0" lang="en-US" sz="3400" spc="-1" strike="noStrike">
                <a:solidFill>
                  <a:srgbClr val="000099"/>
                </a:solidFill>
                <a:latin typeface="Arial"/>
              </a:rPr>
              <a:t>RCOOH </a:t>
            </a:r>
            <a:r>
              <a:rPr b="0" lang="ru-RU" sz="3400" spc="-1" strike="noStrike">
                <a:solidFill>
                  <a:srgbClr val="000099"/>
                </a:solidFill>
                <a:latin typeface="Arial"/>
              </a:rPr>
              <a:t>+ </a:t>
            </a:r>
            <a:r>
              <a:rPr b="0" lang="en-US" sz="3400" spc="-1" strike="noStrike">
                <a:solidFill>
                  <a:srgbClr val="000099"/>
                </a:solidFill>
                <a:latin typeface="Arial"/>
              </a:rPr>
              <a:t>R</a:t>
            </a:r>
            <a:r>
              <a:rPr b="0" lang="ru-RU" sz="3400" spc="-1" strike="noStrike" baseline="30000">
                <a:solidFill>
                  <a:srgbClr val="000099"/>
                </a:solidFill>
                <a:latin typeface="Arial"/>
              </a:rPr>
              <a:t>1</a:t>
            </a:r>
            <a:r>
              <a:rPr b="0" lang="en-US" sz="3400" spc="-1" strike="noStrike">
                <a:solidFill>
                  <a:srgbClr val="000099"/>
                </a:solidFill>
                <a:latin typeface="Arial"/>
              </a:rPr>
              <a:t>OH</a:t>
            </a:r>
            <a:r>
              <a:rPr b="1" lang="en-US" sz="3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BEB89-EFD5-4F7F-BEEF-058B0BE356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Лиазы</a:t>
            </a:r>
            <a:r>
              <a:rPr b="0" lang="ru-RU" sz="3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3"/>
          <p:cNvSpPr/>
          <p:nvPr/>
        </p:nvSpPr>
        <p:spPr>
          <a:xfrm>
            <a:off x="539640" y="90792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612000" y="1165680"/>
            <a:ext cx="7640640" cy="39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99"/>
                </a:solidFill>
                <a:latin typeface="Arial"/>
              </a:rPr>
              <a:t>Е.С.4.1. – углерод-углеродные лиазы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99"/>
                </a:solidFill>
                <a:latin typeface="Arial"/>
              </a:rPr>
              <a:t>Е.С.4.2. – углерод-кислородные лиазы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99"/>
                </a:solidFill>
                <a:latin typeface="Arial"/>
              </a:rPr>
              <a:t>Е.С.4.3. – углерод-азотные лиазы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99"/>
                </a:solidFill>
                <a:latin typeface="Arial"/>
              </a:rPr>
              <a:t>Е.С.4.4. – углерод-серы лиазы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99"/>
                </a:solidFill>
                <a:latin typeface="Arial"/>
              </a:rPr>
              <a:t>Е.С.4.5. – углерод-галоген лиазы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99"/>
                </a:solidFill>
                <a:latin typeface="Arial"/>
              </a:rPr>
              <a:t>Е.С.4.6. – фосфор-кислородные лиазы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99"/>
                </a:solidFill>
                <a:latin typeface="Arial"/>
              </a:rPr>
              <a:t>Е.С.4.99.– другие лиазы.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7D72B-9B86-443A-97EE-D87C4DEAA4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Лиазы</a:t>
            </a:r>
            <a:r>
              <a:rPr b="0" lang="ru-RU" sz="3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3"/>
          <p:cNvSpPr/>
          <p:nvPr/>
        </p:nvSpPr>
        <p:spPr>
          <a:xfrm>
            <a:off x="539640" y="90792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539280" y="1053360"/>
            <a:ext cx="80827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4.1.1. – карбокси лиазы 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4.1.2. – альдегид лиазы 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4.1.3. – оксо-кислотные лиазы 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4.1.99. – другие углерод-углеродные лиазы 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537120" y="3071520"/>
            <a:ext cx="837972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4.1.1.1. – пируват декарбоксилаза 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…………………………………………</a:t>
            </a: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..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4.1.1.23. – оротидин-5-фосфат декабоксилаза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………………………………………………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4.1.1.31. – фосфоенолпируват карбоксилаза 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…………………………………………………</a:t>
            </a: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.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4.1.1.39. – рибулозодифосфат карбоксилаза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…………………………………………………</a:t>
            </a: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.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4.1.1.50. – аденозилметионин декарбоксилаза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B2586-3192-4D1B-9D47-FE1F7AEB0A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Лиазы</a:t>
            </a:r>
            <a:r>
              <a:rPr b="0" lang="ru-RU" sz="3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3"/>
          <p:cNvSpPr/>
          <p:nvPr/>
        </p:nvSpPr>
        <p:spPr>
          <a:xfrm>
            <a:off x="539640" y="90792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5" name="Object 8"/>
          <p:cNvGraphicFramePr/>
          <p:nvPr/>
        </p:nvGraphicFramePr>
        <p:xfrm>
          <a:off x="611280" y="1716120"/>
          <a:ext cx="8280360" cy="185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716120"/>
                    <a:ext cx="8280360" cy="18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DCA5C-DE03-4296-A4F5-9D46E0DD62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Изомераз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"/>
          <p:cNvSpPr/>
          <p:nvPr/>
        </p:nvSpPr>
        <p:spPr>
          <a:xfrm>
            <a:off x="539640" y="90792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425520" y="1127520"/>
            <a:ext cx="853920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5.1. – рацемазы и эпимеразы 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5.2. – </a:t>
            </a:r>
            <a:r>
              <a:rPr b="1" i="1" lang="ru-RU" sz="2600" spc="-1" strike="noStrike">
                <a:solidFill>
                  <a:srgbClr val="000099"/>
                </a:solidFill>
                <a:latin typeface="Arial"/>
              </a:rPr>
              <a:t>цис-трас-</a:t>
            </a: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изомеразы 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5.3. – внутримолекулярные оксидоредуктазы 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5.4. – внутримолекулярные трансферазы (мутазы)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5.5. – внутримолекулярные лиазы 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5.99. – другие изомеразы.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3AB56-40F7-4C30-8F9F-AAA0C7C2ED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Классификация энзимов – </a:t>
            </a:r>
            <a:br>
              <a:rPr sz="3400"/>
            </a:b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Е.С. (</a:t>
            </a:r>
            <a:r>
              <a:rPr b="1" lang="en-US" sz="3400" spc="-1" strike="noStrike">
                <a:solidFill>
                  <a:srgbClr val="000099"/>
                </a:solidFill>
                <a:latin typeface="Arial"/>
              </a:rPr>
              <a:t>Enzyme Classification</a:t>
            </a: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0" lang="ru-RU" sz="3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3"/>
          <p:cNvSpPr/>
          <p:nvPr/>
        </p:nvSpPr>
        <p:spPr>
          <a:xfrm>
            <a:off x="539640" y="141300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7" name="Picture 35" descr=""/>
          <p:cNvPicPr/>
          <p:nvPr/>
        </p:nvPicPr>
        <p:blipFill>
          <a:blip r:embed="rId1"/>
          <a:stretch/>
        </p:blipFill>
        <p:spPr>
          <a:xfrm>
            <a:off x="395280" y="1960560"/>
            <a:ext cx="849780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AF020-AB4A-4EEA-B8E0-0458BDC569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Изомераз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3"/>
          <p:cNvSpPr/>
          <p:nvPr/>
        </p:nvSpPr>
        <p:spPr>
          <a:xfrm>
            <a:off x="539640" y="90792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611280" y="1342080"/>
            <a:ext cx="8028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5.1. рацемазы и эримеразы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5.1.3. действующие на углеводу и их производные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5.1.3.3. альдоза-1-эпимераза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72" name="Object 9"/>
          <p:cNvGraphicFramePr/>
          <p:nvPr/>
        </p:nvGraphicFramePr>
        <p:xfrm>
          <a:off x="539640" y="3429000"/>
          <a:ext cx="820908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3429000"/>
                    <a:ext cx="82090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07C88-7FDA-4B28-873B-2ADBC9441B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Лигазы (синтетазы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3"/>
          <p:cNvSpPr/>
          <p:nvPr/>
        </p:nvSpPr>
        <p:spPr>
          <a:xfrm>
            <a:off x="539640" y="90792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607680" y="1269360"/>
            <a:ext cx="81496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6.1. – образуют углерод-кислородные связи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6.2. – образуют углерод-сера связи 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6.3. – образуют углерод-азотные связи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6.4. – образуют углерод-углеродные связи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6.5. – образуют фосфат эфирные связи. 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2" name="Rectangle 11"/>
          <p:cNvSpPr/>
          <p:nvPr/>
        </p:nvSpPr>
        <p:spPr>
          <a:xfrm>
            <a:off x="652320" y="3790080"/>
            <a:ext cx="82407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6.3. образующие углерод-азотные связи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6.3.1. кислота-аммиак (или амид) лигазы (амид синтазы)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6.3.1.1. аспарат-аммиак лигаза.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1095B-AB16-42F8-96F0-2D1CC532EE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Кинетика ферментативных реакций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3"/>
          <p:cNvSpPr/>
          <p:nvPr/>
        </p:nvSpPr>
        <p:spPr>
          <a:xfrm>
            <a:off x="539640" y="90792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89" name="Picture 10" descr=""/>
          <p:cNvPicPr/>
          <p:nvPr/>
        </p:nvPicPr>
        <p:blipFill>
          <a:blip r:embed="rId1"/>
          <a:srcRect l="2703" t="0" r="0" b="0"/>
          <a:stretch/>
        </p:blipFill>
        <p:spPr>
          <a:xfrm>
            <a:off x="1187280" y="981000"/>
            <a:ext cx="6769440" cy="570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570D1-45F0-4C94-94E6-5014801BCA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Кинетика ферментативных реакций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3"/>
          <p:cNvSpPr/>
          <p:nvPr/>
        </p:nvSpPr>
        <p:spPr>
          <a:xfrm>
            <a:off x="539640" y="90792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96" name="Picture 8" descr=""/>
          <p:cNvPicPr/>
          <p:nvPr/>
        </p:nvPicPr>
        <p:blipFill>
          <a:blip r:embed="rId1"/>
          <a:srcRect l="3896" t="4074" r="3833" b="0"/>
          <a:stretch/>
        </p:blipFill>
        <p:spPr>
          <a:xfrm>
            <a:off x="1260360" y="981000"/>
            <a:ext cx="6264360" cy="434520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9"/>
          <p:cNvSpPr/>
          <p:nvPr/>
        </p:nvSpPr>
        <p:spPr>
          <a:xfrm>
            <a:off x="179280" y="5362200"/>
            <a:ext cx="8964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Влияние концентрации субстрата на начальную скорость катализируемой ферментом реакции. Из такого графика можно определить величину </a:t>
            </a:r>
            <a:r>
              <a:rPr b="1" i="1" lang="en-US" sz="1400" spc="-1" strike="noStrike">
                <a:solidFill>
                  <a:srgbClr val="000099"/>
                </a:solidFill>
                <a:latin typeface="Arial"/>
              </a:rPr>
              <a:t>V</a:t>
            </a: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только путем аппроксимирования. Точное определение этой величины в данном случае невозможно, так как по мере повышения концентрации субстрата начальная скорость реакции лишь приближаете к </a:t>
            </a:r>
            <a:r>
              <a:rPr b="1" i="1" lang="en-US" sz="1400" spc="-1" strike="noStrike">
                <a:solidFill>
                  <a:srgbClr val="000099"/>
                </a:solidFill>
                <a:latin typeface="Arial"/>
              </a:rPr>
              <a:t>V</a:t>
            </a: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, но никогда ее не достигает. Концентрация субстрата, при которой скорость реакции составляет половину максимальной, численно равна К'м константе Михаэлиса - Ментен. 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9D372-32F3-437C-AA30-F1A55299D7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Кинетика ферментативных реакций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3"/>
          <p:cNvSpPr/>
          <p:nvPr/>
        </p:nvSpPr>
        <p:spPr>
          <a:xfrm>
            <a:off x="539640" y="90792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Rectangle 9"/>
          <p:cNvSpPr/>
          <p:nvPr/>
        </p:nvSpPr>
        <p:spPr>
          <a:xfrm>
            <a:off x="540360" y="1125000"/>
            <a:ext cx="3792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Виктор Генри (1903 г.)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Rectangle 10"/>
          <p:cNvSpPr/>
          <p:nvPr/>
        </p:nvSpPr>
        <p:spPr>
          <a:xfrm>
            <a:off x="576000" y="1699920"/>
            <a:ext cx="666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Леонор Михаэлис, Мод Ментен (1913 г.)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Rectangle 12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206" name="Object 11"/>
          <p:cNvGraphicFramePr/>
          <p:nvPr/>
        </p:nvGraphicFramePr>
        <p:xfrm>
          <a:off x="1979640" y="2565360"/>
          <a:ext cx="4680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565360"/>
                    <a:ext cx="4680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Rectangle 14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209" name="Object 13"/>
          <p:cNvGraphicFramePr/>
          <p:nvPr/>
        </p:nvGraphicFramePr>
        <p:xfrm>
          <a:off x="1979640" y="3789360"/>
          <a:ext cx="4608360" cy="81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0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789360"/>
                    <a:ext cx="4608360" cy="8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Rectangle 16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212" name="Object 15"/>
          <p:cNvGraphicFramePr/>
          <p:nvPr/>
        </p:nvGraphicFramePr>
        <p:xfrm>
          <a:off x="2050920" y="5084640"/>
          <a:ext cx="4608720" cy="816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3" name="Object 1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50920" y="5084640"/>
                    <a:ext cx="4608720" cy="8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E6D90-DCE9-41B0-88BB-BBB4BC2113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Кинетика ферментативных реакций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3"/>
          <p:cNvSpPr/>
          <p:nvPr/>
        </p:nvSpPr>
        <p:spPr>
          <a:xfrm>
            <a:off x="539640" y="90792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Rectangle 10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12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Rectangle 14"/>
          <p:cNvSpPr/>
          <p:nvPr/>
        </p:nvSpPr>
        <p:spPr>
          <a:xfrm>
            <a:off x="538200" y="1041120"/>
            <a:ext cx="4795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Модель Михаэлиса-Ментон 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23" name="Picture 15" descr=""/>
          <p:cNvPicPr/>
          <p:nvPr/>
        </p:nvPicPr>
        <p:blipFill>
          <a:blip r:embed="rId1"/>
          <a:srcRect l="3896" t="4074" r="3833" b="0"/>
          <a:stretch/>
        </p:blipFill>
        <p:spPr>
          <a:xfrm>
            <a:off x="611280" y="1700280"/>
            <a:ext cx="566892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3FBE6-B312-4AF0-88AC-815FDA949D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Кинетика ферментативных реакций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3"/>
          <p:cNvSpPr/>
          <p:nvPr/>
        </p:nvSpPr>
        <p:spPr>
          <a:xfrm>
            <a:off x="539640" y="90792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Rectangle 8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Rectangle 9"/>
          <p:cNvSpPr/>
          <p:nvPr/>
        </p:nvSpPr>
        <p:spPr>
          <a:xfrm>
            <a:off x="538200" y="1041120"/>
            <a:ext cx="4795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Модель Михаэлиса-Ментон 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3" name="Rectangle 11"/>
          <p:cNvSpPr/>
          <p:nvPr/>
        </p:nvSpPr>
        <p:spPr>
          <a:xfrm>
            <a:off x="611280" y="2164680"/>
            <a:ext cx="8064360" cy="22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3300"/>
                </a:solidFill>
                <a:latin typeface="Arial"/>
              </a:rPr>
              <a:t>К</a:t>
            </a:r>
            <a:r>
              <a:rPr b="1" i="1" lang="ru-RU" sz="2600" spc="-1" strike="noStrike" baseline="-25000">
                <a:solidFill>
                  <a:srgbClr val="ff3300"/>
                </a:solidFill>
                <a:latin typeface="Arial"/>
              </a:rPr>
              <a:t>м</a:t>
            </a:r>
            <a:r>
              <a:rPr b="1" i="1" lang="ru-RU" sz="26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ru-RU" sz="2600" spc="-1" strike="noStrike">
                <a:solidFill>
                  <a:srgbClr val="ff3300"/>
                </a:solidFill>
                <a:latin typeface="Arial"/>
              </a:rPr>
              <a:t>константа Михаэлиса-Ментен</a:t>
            </a: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) </a:t>
            </a: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–</a:t>
            </a:r>
            <a:r>
              <a:rPr b="1" i="1" lang="ru-RU" sz="2600" spc="-1" strike="noStrike">
                <a:solidFill>
                  <a:srgbClr val="000099"/>
                </a:solidFill>
                <a:latin typeface="Arial"/>
              </a:rPr>
              <a:t>концентрация специфического субстрата, при которой данный фермент обеспечивает скорость реакции, равную половине ее максимальной скорости</a:t>
            </a: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8803F-7CDA-4E72-AB3D-BE06B9ED6C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Кинетика ферментативных реакций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3"/>
          <p:cNvSpPr/>
          <p:nvPr/>
        </p:nvSpPr>
        <p:spPr>
          <a:xfrm>
            <a:off x="539640" y="90792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Rectangle 9"/>
          <p:cNvSpPr/>
          <p:nvPr/>
        </p:nvSpPr>
        <p:spPr>
          <a:xfrm>
            <a:off x="538200" y="1041120"/>
            <a:ext cx="4795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Модель Михаэлиса-Ментон 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Object 11"/>
              <p:cNvSpPr txBox="1"/>
              <p:nvPr/>
            </p:nvSpPr>
            <p:spPr>
              <a:xfrm>
                <a:off x="1835280" y="2349360"/>
                <a:ext cx="4465440" cy="22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S</m:t>
                        </m:r>
                        <m:r>
                          <m:t xml:space="preserve">]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М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[</m:t>
                        </m:r>
                        <m:r>
                          <m:t xml:space="preserve">S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2" name="Rectangle 13"/>
          <p:cNvSpPr/>
          <p:nvPr/>
        </p:nvSpPr>
        <p:spPr>
          <a:xfrm>
            <a:off x="609120" y="1699920"/>
            <a:ext cx="540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3300"/>
                </a:solidFill>
                <a:latin typeface="Arial"/>
              </a:rPr>
              <a:t>Уравнение Михаэлиса-Ментен</a:t>
            </a:r>
            <a:r>
              <a:rPr b="1" lang="ru-RU" sz="2600" spc="-1" strike="noStrike">
                <a:solidFill>
                  <a:srgbClr val="ff33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Rectangle 14"/>
          <p:cNvSpPr/>
          <p:nvPr/>
        </p:nvSpPr>
        <p:spPr>
          <a:xfrm>
            <a:off x="395280" y="4477320"/>
            <a:ext cx="8497800" cy="22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где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v</a:t>
            </a:r>
            <a:r>
              <a:rPr b="0" lang="ru-RU" sz="2600" spc="-1" strike="noStrike" baseline="-25000">
                <a:solidFill>
                  <a:srgbClr val="000099"/>
                </a:solidFill>
                <a:latin typeface="Arial"/>
              </a:rPr>
              <a:t>0</a:t>
            </a: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 начальная скорость при концентрации субстрата [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S</a:t>
            </a: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], </a:t>
            </a:r>
            <a:r>
              <a:rPr b="0" i="1" lang="en-US" sz="2600" spc="-1" strike="noStrike">
                <a:solidFill>
                  <a:srgbClr val="000099"/>
                </a:solidFill>
                <a:latin typeface="Arial"/>
              </a:rPr>
              <a:t>V</a:t>
            </a:r>
            <a:r>
              <a:rPr b="0" i="1" lang="en-US" sz="2600" spc="-1" strike="noStrike" baseline="-25000">
                <a:solidFill>
                  <a:srgbClr val="000099"/>
                </a:solidFill>
                <a:latin typeface="Arial"/>
              </a:rPr>
              <a:t>max</a:t>
            </a:r>
            <a:r>
              <a:rPr b="0" i="1" lang="ru-RU" sz="2600" spc="-1" strike="noStrike">
                <a:solidFill>
                  <a:srgbClr val="000099"/>
                </a:solidFill>
                <a:latin typeface="Arial"/>
              </a:rPr>
              <a:t> – </a:t>
            </a: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максимальная скорость и К</a:t>
            </a:r>
            <a:r>
              <a:rPr b="0" lang="ru-RU" sz="2600" spc="-1" strike="noStrike" baseline="-25000">
                <a:solidFill>
                  <a:srgbClr val="000099"/>
                </a:solidFill>
                <a:latin typeface="Arial"/>
              </a:rPr>
              <a:t>м</a:t>
            </a: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ru-RU" sz="3400" spc="-1" strike="noStrike">
                <a:solidFill>
                  <a:srgbClr val="000099"/>
                </a:solidFill>
                <a:latin typeface="Arial"/>
              </a:rPr>
              <a:t>–</a:t>
            </a: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константа Михаэлиса-Ментен для данного фермента, соответствующая определенному субстрату</a:t>
            </a: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055CF-75AC-4750-A8EE-6BC11B8AB9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Кинетика ферментативных реакций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3"/>
          <p:cNvSpPr/>
          <p:nvPr/>
        </p:nvSpPr>
        <p:spPr>
          <a:xfrm>
            <a:off x="539640" y="90792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538200" y="1041120"/>
            <a:ext cx="4795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Модель Михаэлиса-Ментон 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324000" y="1674720"/>
          <a:ext cx="8532720" cy="5002200"/>
        </p:xfrm>
        <a:graphic>
          <a:graphicData uri="http://schemas.openxmlformats.org/drawingml/2006/table">
            <a:tbl>
              <a:tblPr/>
              <a:tblGrid>
                <a:gridCol w="3024000"/>
                <a:gridCol w="3960720"/>
                <a:gridCol w="1548000"/>
              </a:tblGrid>
              <a:tr h="7581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Значения констант Михаэлиса-Ментен (</a:t>
                      </a:r>
                      <a:r>
                        <a:rPr b="1" i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r>
                        <a:rPr b="1" i="1" lang="ru-RU" sz="2000" spc="-1" strike="noStrike" baseline="-30000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) для некоторых </a:t>
                      </a: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ферментов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Фермент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Субстрат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К</a:t>
                      </a:r>
                      <a:r>
                        <a:rPr b="1" i="1" lang="ru-RU" sz="2000" spc="-1" strike="noStrike" baseline="-30000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м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Каталаза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r>
                        <a:rPr b="1" lang="ru-RU" sz="2000" spc="-1" strike="noStrike" baseline="-30000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r>
                        <a:rPr b="1" lang="ru-RU" sz="2000" spc="-1" strike="noStrike" baseline="-30000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988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Гексокиназа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мозг)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ТР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глюкоза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0,05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фруктоза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,5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Карбоангидраза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СОз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98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Химотрипсин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Глицил-тирозинил-глицин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бензоилтирозинамид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,5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β-Галактозидаза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лактоза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,0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3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Треониндегидратаза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треонин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,0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0F75F-FAF3-4EE8-B967-0E5F75037E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Кинетика ферментативных реакций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3"/>
          <p:cNvSpPr/>
          <p:nvPr/>
        </p:nvSpPr>
        <p:spPr>
          <a:xfrm>
            <a:off x="539640" y="90792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6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Rectangle 7"/>
          <p:cNvSpPr/>
          <p:nvPr/>
        </p:nvSpPr>
        <p:spPr>
          <a:xfrm>
            <a:off x="468360" y="958680"/>
            <a:ext cx="8280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Зависимость скорости ферментативных реакций от рН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Rectangle 48"/>
          <p:cNvSpPr/>
          <p:nvPr/>
        </p:nvSpPr>
        <p:spPr>
          <a:xfrm>
            <a:off x="0" y="27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259" name="Object 47"/>
          <p:cNvGraphicFramePr/>
          <p:nvPr/>
        </p:nvGraphicFramePr>
        <p:xfrm>
          <a:off x="395280" y="2090880"/>
          <a:ext cx="5472000" cy="414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Object 4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090880"/>
                    <a:ext cx="5472000" cy="414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Rectangle 49"/>
          <p:cNvSpPr/>
          <p:nvPr/>
        </p:nvSpPr>
        <p:spPr>
          <a:xfrm>
            <a:off x="5722920" y="2995920"/>
            <a:ext cx="3457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Зависимость активности ферментов (для удобства сравнения приведены активности, нормированные к единице) от рН. </a:t>
            </a:r>
            <a:br>
              <a:rPr sz="2000"/>
            </a:b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— Пепсин, </a:t>
            </a:r>
            <a:br>
              <a:rPr sz="2000"/>
            </a:b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— рибонуклеаза, </a:t>
            </a:r>
            <a:br>
              <a:rPr sz="2000"/>
            </a:b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3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 — аргиназа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D54BB-4A78-442D-9393-779BC10A54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Классификация энзимов – </a:t>
            </a:r>
            <a:br>
              <a:rPr sz="3400"/>
            </a:b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Е.С. (</a:t>
            </a:r>
            <a:r>
              <a:rPr b="1" lang="en-US" sz="3400" spc="-1" strike="noStrike">
                <a:solidFill>
                  <a:srgbClr val="000099"/>
                </a:solidFill>
                <a:latin typeface="Arial"/>
              </a:rPr>
              <a:t>Enzyme Classification</a:t>
            </a: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0" lang="ru-RU" sz="3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3"/>
          <p:cNvSpPr/>
          <p:nvPr/>
        </p:nvSpPr>
        <p:spPr>
          <a:xfrm>
            <a:off x="539640" y="141300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726840" y="1908720"/>
            <a:ext cx="8071560" cy="30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Е.С.1. – оксидоредуктазы (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oxidoreductases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).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Е.С.2. – трансферазы (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transferases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Е.С.3. – гидролазы (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hydrolases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Е.С.4. – лиазы (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lyases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Е.С.5. – изомеразы (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isomerases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Е.С.6. – лигазы (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ligases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9BCBB-6AA5-40E5-B269-C05FE4669F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Кинетика ферментативных реакций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"/>
          <p:cNvSpPr/>
          <p:nvPr/>
        </p:nvSpPr>
        <p:spPr>
          <a:xfrm>
            <a:off x="539640" y="90792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Rectangle 5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468360" y="958680"/>
            <a:ext cx="8280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Зависимость скорости ферментативных реакций от рН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7"/>
          <p:cNvSpPr/>
          <p:nvPr/>
        </p:nvSpPr>
        <p:spPr>
          <a:xfrm>
            <a:off x="0" y="27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250920" y="2708280"/>
          <a:ext cx="8642160" cy="3521160"/>
        </p:xfrm>
        <a:graphic>
          <a:graphicData uri="http://schemas.openxmlformats.org/drawingml/2006/table">
            <a:tbl>
              <a:tblPr/>
              <a:tblGrid>
                <a:gridCol w="4321080"/>
                <a:gridCol w="4321080"/>
              </a:tblGrid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Фермент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птимум рН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епсин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,5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Трипсин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,7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Катал аза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,6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ргиназа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,7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Фумараза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,8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Рибонуклеаза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,8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70" name="Rectangle 97"/>
          <p:cNvSpPr/>
          <p:nvPr/>
        </p:nvSpPr>
        <p:spPr>
          <a:xfrm>
            <a:off x="250920" y="2114280"/>
            <a:ext cx="8642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Оптимальные значения рН для некоторых ферментов</a:t>
            </a: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3FE26-937B-453A-BD7C-722886588F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Кинетика ферментативных реакций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3"/>
          <p:cNvSpPr/>
          <p:nvPr/>
        </p:nvSpPr>
        <p:spPr>
          <a:xfrm>
            <a:off x="539640" y="90792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Rectangle 6"/>
          <p:cNvSpPr/>
          <p:nvPr/>
        </p:nvSpPr>
        <p:spPr>
          <a:xfrm>
            <a:off x="468360" y="958680"/>
            <a:ext cx="8280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Количество фермента можно определить по его активности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Rectangle 35"/>
          <p:cNvSpPr/>
          <p:nvPr/>
        </p:nvSpPr>
        <p:spPr>
          <a:xfrm>
            <a:off x="468360" y="2025720"/>
            <a:ext cx="8424720" cy="39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99"/>
                </a:solidFill>
                <a:latin typeface="Arial"/>
              </a:rPr>
              <a:t>За единицу активности фермента принимается такое количество фермента, которое катализирует превращение 1 мкмоля субстрата (1 мкмоль = 10–6 моля) в 1 мин при 25°С в оптимальных условиях действия фермента.</a:t>
            </a: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3300"/>
                </a:solidFill>
                <a:latin typeface="Arial"/>
              </a:rPr>
              <a:t>Удельной активностью </a:t>
            </a:r>
            <a:r>
              <a:rPr b="1" i="1" lang="ru-RU" sz="2600" spc="-1" strike="noStrike">
                <a:solidFill>
                  <a:srgbClr val="000099"/>
                </a:solidFill>
                <a:latin typeface="Arial"/>
              </a:rPr>
              <a:t>называется число единиц ферментативной активности в расчете на 1 мг белка.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4DD97-84AC-4C59-B665-35718E8D6B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Специфичность ферментов по отношению к субстратам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3"/>
          <p:cNvSpPr/>
          <p:nvPr/>
        </p:nvSpPr>
        <p:spPr>
          <a:xfrm>
            <a:off x="539640" y="141300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Rectangle 7"/>
          <p:cNvSpPr/>
          <p:nvPr/>
        </p:nvSpPr>
        <p:spPr>
          <a:xfrm>
            <a:off x="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280" name="Object 6"/>
          <p:cNvGraphicFramePr/>
          <p:nvPr/>
        </p:nvGraphicFramePr>
        <p:xfrm>
          <a:off x="826920" y="1413000"/>
          <a:ext cx="7993080" cy="272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413000"/>
                    <a:ext cx="7993080" cy="27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Rectangle 9"/>
          <p:cNvSpPr/>
          <p:nvPr/>
        </p:nvSpPr>
        <p:spPr>
          <a:xfrm>
            <a:off x="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283" name="Object 8"/>
          <p:cNvGraphicFramePr/>
          <p:nvPr/>
        </p:nvGraphicFramePr>
        <p:xfrm>
          <a:off x="2050920" y="4292640"/>
          <a:ext cx="5759640" cy="248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4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0920" y="4292640"/>
                    <a:ext cx="5759640" cy="24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0C20C-0B95-4BBD-9D8D-952B38B3B5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Пространственное строение активного центра ферментов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3"/>
          <p:cNvSpPr/>
          <p:nvPr/>
        </p:nvSpPr>
        <p:spPr>
          <a:xfrm>
            <a:off x="539640" y="134136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Rectangle 4"/>
          <p:cNvSpPr/>
          <p:nvPr/>
        </p:nvSpPr>
        <p:spPr>
          <a:xfrm>
            <a:off x="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9" name="Rectangle 6"/>
          <p:cNvSpPr/>
          <p:nvPr/>
        </p:nvSpPr>
        <p:spPr>
          <a:xfrm>
            <a:off x="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0" name="Rectangle 9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291" name="Object 8"/>
          <p:cNvGraphicFramePr/>
          <p:nvPr/>
        </p:nvGraphicFramePr>
        <p:xfrm>
          <a:off x="250920" y="2708280"/>
          <a:ext cx="8713800" cy="146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708280"/>
                    <a:ext cx="8713800" cy="14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71B1F-D848-4CB1-90E2-CADC082F0C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Пространственное строение активного центра ферментов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3"/>
          <p:cNvSpPr/>
          <p:nvPr/>
        </p:nvSpPr>
        <p:spPr>
          <a:xfrm>
            <a:off x="539640" y="134136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6" name="Rectangle 4"/>
          <p:cNvSpPr/>
          <p:nvPr/>
        </p:nvSpPr>
        <p:spPr>
          <a:xfrm>
            <a:off x="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7" name="Rectangle 5"/>
          <p:cNvSpPr/>
          <p:nvPr/>
        </p:nvSpPr>
        <p:spPr>
          <a:xfrm>
            <a:off x="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8" name="Rectangle 6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99" name="Picture 8" descr=""/>
          <p:cNvPicPr/>
          <p:nvPr/>
        </p:nvPicPr>
        <p:blipFill>
          <a:blip r:embed="rId1"/>
          <a:srcRect l="0" t="0" r="0" b="15496"/>
          <a:stretch/>
        </p:blipFill>
        <p:spPr>
          <a:xfrm>
            <a:off x="900000" y="1557360"/>
            <a:ext cx="7056720" cy="48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D3415-B854-49C8-9E7B-0800AF472A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Пространственное строение активного центра ферментов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3"/>
          <p:cNvSpPr/>
          <p:nvPr/>
        </p:nvSpPr>
        <p:spPr>
          <a:xfrm>
            <a:off x="539640" y="134136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3" name="Rectangle 4"/>
          <p:cNvSpPr/>
          <p:nvPr/>
        </p:nvSpPr>
        <p:spPr>
          <a:xfrm>
            <a:off x="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Rectangle 6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306" name="Picture 8" descr=""/>
          <p:cNvPicPr/>
          <p:nvPr/>
        </p:nvPicPr>
        <p:blipFill>
          <a:blip r:embed="rId1"/>
          <a:srcRect l="0" t="0" r="0" b="13424"/>
          <a:stretch/>
        </p:blipFill>
        <p:spPr>
          <a:xfrm>
            <a:off x="1042920" y="1484280"/>
            <a:ext cx="734544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C2495-06BD-48B5-B81D-0F3787C7D4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Пространственное строение активного центра ферментов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3"/>
          <p:cNvSpPr/>
          <p:nvPr/>
        </p:nvSpPr>
        <p:spPr>
          <a:xfrm>
            <a:off x="539640" y="134136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4"/>
          <p:cNvSpPr/>
          <p:nvPr/>
        </p:nvSpPr>
        <p:spPr>
          <a:xfrm>
            <a:off x="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Rectangle 5"/>
          <p:cNvSpPr/>
          <p:nvPr/>
        </p:nvSpPr>
        <p:spPr>
          <a:xfrm>
            <a:off x="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Rectangle 6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9"/>
          <p:cNvSpPr/>
          <p:nvPr/>
        </p:nvSpPr>
        <p:spPr>
          <a:xfrm>
            <a:off x="0" y="26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314" name="Object 8"/>
          <p:cNvGraphicFramePr/>
          <p:nvPr/>
        </p:nvGraphicFramePr>
        <p:xfrm>
          <a:off x="900000" y="1628640"/>
          <a:ext cx="7417080" cy="444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628640"/>
                    <a:ext cx="7417080" cy="444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557F0-1C28-4E86-B941-60C4E5E194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Пространственное строение активного центра ферментов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3"/>
          <p:cNvSpPr/>
          <p:nvPr/>
        </p:nvSpPr>
        <p:spPr>
          <a:xfrm>
            <a:off x="539640" y="134136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Rectangle 4"/>
          <p:cNvSpPr/>
          <p:nvPr/>
        </p:nvSpPr>
        <p:spPr>
          <a:xfrm>
            <a:off x="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Rectangle 5"/>
          <p:cNvSpPr/>
          <p:nvPr/>
        </p:nvSpPr>
        <p:spPr>
          <a:xfrm>
            <a:off x="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1" name="Rectangle 6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2" name="Rectangle 7"/>
          <p:cNvSpPr/>
          <p:nvPr/>
        </p:nvSpPr>
        <p:spPr>
          <a:xfrm>
            <a:off x="0" y="26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323" name="Picture 9" descr="elast_0"/>
          <p:cNvPicPr/>
          <p:nvPr/>
        </p:nvPicPr>
        <p:blipFill>
          <a:blip r:embed="rId1"/>
          <a:srcRect l="12791" t="0" r="12791" b="0"/>
          <a:stretch/>
        </p:blipFill>
        <p:spPr>
          <a:xfrm>
            <a:off x="755640" y="1413000"/>
            <a:ext cx="7559640" cy="53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E5A25-3513-4FFD-858F-8FCF0A3DD4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Пространственное строение активного центра ферментов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3"/>
          <p:cNvSpPr/>
          <p:nvPr/>
        </p:nvSpPr>
        <p:spPr>
          <a:xfrm>
            <a:off x="539640" y="134136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7" name="Rectangle 4"/>
          <p:cNvSpPr/>
          <p:nvPr/>
        </p:nvSpPr>
        <p:spPr>
          <a:xfrm>
            <a:off x="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0" y="26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332" name="Object 9"/>
          <p:cNvGraphicFramePr/>
          <p:nvPr/>
        </p:nvGraphicFramePr>
        <p:xfrm>
          <a:off x="1738440" y="1341360"/>
          <a:ext cx="4921200" cy="551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8440" y="1341360"/>
                    <a:ext cx="4921200" cy="551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CBEEE-609E-4B1C-A055-CB6F2D4EA3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Пространственное строение активного центра ферментов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3"/>
          <p:cNvSpPr/>
          <p:nvPr/>
        </p:nvSpPr>
        <p:spPr>
          <a:xfrm>
            <a:off x="539640" y="134136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Rectangle 4"/>
          <p:cNvSpPr/>
          <p:nvPr/>
        </p:nvSpPr>
        <p:spPr>
          <a:xfrm>
            <a:off x="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Rectangle 5"/>
          <p:cNvSpPr/>
          <p:nvPr/>
        </p:nvSpPr>
        <p:spPr>
          <a:xfrm>
            <a:off x="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Rectangle 6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Rectangle 7"/>
          <p:cNvSpPr/>
          <p:nvPr/>
        </p:nvSpPr>
        <p:spPr>
          <a:xfrm>
            <a:off x="0" y="26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8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342" name="Picture 10" descr=""/>
          <p:cNvPicPr/>
          <p:nvPr/>
        </p:nvPicPr>
        <p:blipFill>
          <a:blip r:embed="rId1"/>
          <a:srcRect l="0" t="0" r="-4685" b="0"/>
          <a:stretch/>
        </p:blipFill>
        <p:spPr>
          <a:xfrm>
            <a:off x="1403280" y="1528920"/>
            <a:ext cx="597528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D2A1D-3C33-4737-A11D-BC42BEC094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Оксиредуктаз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3"/>
          <p:cNvSpPr/>
          <p:nvPr/>
        </p:nvSpPr>
        <p:spPr>
          <a:xfrm>
            <a:off x="539640" y="90792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611280" y="1677600"/>
            <a:ext cx="806616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Дегидрогеназы (редуктазы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Оксидазы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Пероксидазы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Гидроксилазы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Оксигеназы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Гидрогеназы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3D133-8FA9-4532-A346-38449301C7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Пространственное строение активного центра ферментов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3"/>
          <p:cNvSpPr/>
          <p:nvPr/>
        </p:nvSpPr>
        <p:spPr>
          <a:xfrm>
            <a:off x="539640" y="134136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Rectangle 4"/>
          <p:cNvSpPr/>
          <p:nvPr/>
        </p:nvSpPr>
        <p:spPr>
          <a:xfrm>
            <a:off x="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Rectangle 5"/>
          <p:cNvSpPr/>
          <p:nvPr/>
        </p:nvSpPr>
        <p:spPr>
          <a:xfrm>
            <a:off x="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Rectangle 6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Rectangle 7"/>
          <p:cNvSpPr/>
          <p:nvPr/>
        </p:nvSpPr>
        <p:spPr>
          <a:xfrm>
            <a:off x="0" y="26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Rectangle 8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Rectangle 11"/>
          <p:cNvSpPr/>
          <p:nvPr/>
        </p:nvSpPr>
        <p:spPr>
          <a:xfrm>
            <a:off x="0" y="254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352" name="Object 10"/>
          <p:cNvGraphicFramePr/>
          <p:nvPr/>
        </p:nvGraphicFramePr>
        <p:xfrm>
          <a:off x="34920" y="1484280"/>
          <a:ext cx="5472000" cy="49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3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" y="1484280"/>
                    <a:ext cx="5472000" cy="49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Rectangle 12"/>
          <p:cNvSpPr/>
          <p:nvPr/>
        </p:nvSpPr>
        <p:spPr>
          <a:xfrm>
            <a:off x="5508720" y="1764720"/>
            <a:ext cx="36352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Трехмерная структура активного центра рибонуклеазы А по данным рентгено-структурного анализа. Для удобства показаны лишь участки полипептидной цепи несущие связывающие и каталитические группы. Полипептидые цепи представлены ходом пептидного остова (темно-серые), связывающие и каталитические группы — палочковыми моделями (светло-серые), модель субстрата [уридилил(3</a:t>
            </a:r>
            <a:r>
              <a:rPr b="1" lang="en-U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´</a:t>
            </a:r>
            <a:r>
              <a:rPr b="1" lang="en-US" sz="16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5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´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)аденозин] — черной палочковой моделью. Водородные связи обозначены пунктиром 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ADB16-4197-4F02-A2FC-A024D72CA6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Пространственное строение активного центра ферментов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3"/>
          <p:cNvSpPr/>
          <p:nvPr/>
        </p:nvSpPr>
        <p:spPr>
          <a:xfrm>
            <a:off x="539640" y="134136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Rectangle 4"/>
          <p:cNvSpPr/>
          <p:nvPr/>
        </p:nvSpPr>
        <p:spPr>
          <a:xfrm>
            <a:off x="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Rectangle 5"/>
          <p:cNvSpPr/>
          <p:nvPr/>
        </p:nvSpPr>
        <p:spPr>
          <a:xfrm>
            <a:off x="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6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Rectangle 7"/>
          <p:cNvSpPr/>
          <p:nvPr/>
        </p:nvSpPr>
        <p:spPr>
          <a:xfrm>
            <a:off x="0" y="26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Rectangle 8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Rectangle 9"/>
          <p:cNvSpPr/>
          <p:nvPr/>
        </p:nvSpPr>
        <p:spPr>
          <a:xfrm>
            <a:off x="0" y="254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Rectangle 13"/>
          <p:cNvSpPr/>
          <p:nvPr/>
        </p:nvSpPr>
        <p:spPr>
          <a:xfrm>
            <a:off x="0" y="26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365" name="Object 12"/>
          <p:cNvGraphicFramePr/>
          <p:nvPr/>
        </p:nvGraphicFramePr>
        <p:xfrm>
          <a:off x="108000" y="1484280"/>
          <a:ext cx="5688000" cy="497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6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484280"/>
                    <a:ext cx="5688000" cy="49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Rectangle 14"/>
          <p:cNvSpPr/>
          <p:nvPr/>
        </p:nvSpPr>
        <p:spPr>
          <a:xfrm>
            <a:off x="5867280" y="4075200"/>
            <a:ext cx="3276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Укладка субстрата [аденилил(3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´</a:t>
            </a:r>
            <a:r>
              <a:rPr b="1" lang="en-US" sz="16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5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´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)уридилил</a:t>
            </a:r>
            <a:br>
              <a:rPr sz="1600"/>
            </a:b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(3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´</a:t>
            </a:r>
            <a:r>
              <a:rPr b="1" lang="en-US" sz="16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 5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´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)аденилил(3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´</a:t>
            </a:r>
            <a:r>
              <a:rPr b="1" lang="en-US" sz="16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5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´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) аденозина] в третичной структуре фермента 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1ED11-F218-4E1D-B3BD-CABECA5256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43588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Факторы, определяющие каталитическую эффективность ферме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3"/>
          <p:cNvSpPr/>
          <p:nvPr/>
        </p:nvSpPr>
        <p:spPr>
          <a:xfrm>
            <a:off x="539640" y="184464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Rectangle 5"/>
          <p:cNvSpPr/>
          <p:nvPr/>
        </p:nvSpPr>
        <p:spPr>
          <a:xfrm>
            <a:off x="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Rectangle 7"/>
          <p:cNvSpPr/>
          <p:nvPr/>
        </p:nvSpPr>
        <p:spPr>
          <a:xfrm>
            <a:off x="0" y="26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Rectangle 9"/>
          <p:cNvSpPr/>
          <p:nvPr/>
        </p:nvSpPr>
        <p:spPr>
          <a:xfrm>
            <a:off x="0" y="254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Rectangle 10"/>
          <p:cNvSpPr/>
          <p:nvPr/>
        </p:nvSpPr>
        <p:spPr>
          <a:xfrm>
            <a:off x="0" y="26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Rectangle 13"/>
          <p:cNvSpPr/>
          <p:nvPr/>
        </p:nvSpPr>
        <p:spPr>
          <a:xfrm>
            <a:off x="468360" y="2354760"/>
            <a:ext cx="8064360" cy="33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Bef>
                <a:spcPts val="187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99"/>
                </a:solidFill>
                <a:latin typeface="Arial"/>
              </a:rPr>
              <a:t>Сближение и ориентация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87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99"/>
                </a:solidFill>
                <a:latin typeface="Arial"/>
              </a:rPr>
              <a:t>Напряжение и деформация; индуцированное соответствие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87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99"/>
                </a:solidFill>
                <a:latin typeface="Arial"/>
              </a:rPr>
              <a:t>Общий кислотно-основной катализ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87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99"/>
                </a:solidFill>
                <a:latin typeface="Arial"/>
              </a:rPr>
              <a:t>Ковалентный катализ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AC8AF-6FBB-4CB7-BAF5-0B513FC122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Оксиредуктаз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3"/>
          <p:cNvSpPr/>
          <p:nvPr/>
        </p:nvSpPr>
        <p:spPr>
          <a:xfrm>
            <a:off x="539640" y="90792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539640" y="1142640"/>
            <a:ext cx="8353440" cy="53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Е.С.1.1. – действует на СН-ОН функцию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Е.С.1.2. – действует на альдегидную группу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Е.С.1.3. – действует на СН-СН группу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…………………………………………………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Е.С.1.10. – действует на дифенолы и родственные группы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…………………………………………………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Е.С.1.13. – действует на простую связь с внедрением молекулярного кислорода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…………………………………………………………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Е.С.1.17. – действует на СН</a:t>
            </a:r>
            <a:r>
              <a:rPr b="1" lang="ru-RU" sz="28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 фрагмен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48631-C591-4F00-89B1-8BD8DE9143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Оксиредуктаз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3"/>
          <p:cNvSpPr/>
          <p:nvPr/>
        </p:nvSpPr>
        <p:spPr>
          <a:xfrm>
            <a:off x="539640" y="90792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616680" y="1198080"/>
            <a:ext cx="5205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Е.С.1.1.1. –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NAD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+ или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NADP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+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Е.С.1.1.2. – цитохромом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Е.С.1.1.3. – кислородом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Е.С.1.1.4. – дисульфидом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Е.С.1.1.5. – хиноном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C78F7-6B5E-45CC-AEA9-AB42E28B57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Оксиредуктаз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"/>
          <p:cNvSpPr/>
          <p:nvPr/>
        </p:nvSpPr>
        <p:spPr>
          <a:xfrm>
            <a:off x="539640" y="90792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5960" y="1181880"/>
            <a:ext cx="807372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Е.С.1.1.1.1. – алкоголь дегидрогеназа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NAD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+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Е.С.1.1.1.2. – алкоголь дегидрогеназа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NADP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+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…………………………………………………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Е.С.1.1.1.27 –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-лактат дегидрогеназа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…………………………………………………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Е.С.1.1.1.32 – мевальдат редуктаза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…………………………………………………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Е.С.1.1.1.62 – эстрадиол 17-β-дегидрогеназа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C0BF8-F656-4556-B776-2557F081B6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Оксиредуктаз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"/>
          <p:cNvSpPr/>
          <p:nvPr/>
        </p:nvSpPr>
        <p:spPr>
          <a:xfrm>
            <a:off x="539640" y="90792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542160" y="1426680"/>
            <a:ext cx="192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1.1.1.1 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73" name="Object 6"/>
          <p:cNvGraphicFramePr/>
          <p:nvPr/>
        </p:nvGraphicFramePr>
        <p:xfrm>
          <a:off x="395280" y="2436840"/>
          <a:ext cx="8424720" cy="144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436840"/>
                    <a:ext cx="842472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Rectangle 9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76" name="Object 8"/>
          <p:cNvGraphicFramePr/>
          <p:nvPr/>
        </p:nvGraphicFramePr>
        <p:xfrm>
          <a:off x="684360" y="4653000"/>
          <a:ext cx="7416720" cy="50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4653000"/>
                    <a:ext cx="741672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86338-711E-4802-B7ED-965708130A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Трансферазы</a:t>
            </a:r>
            <a:r>
              <a:rPr b="0" lang="ru-RU" sz="3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3"/>
          <p:cNvSpPr/>
          <p:nvPr/>
        </p:nvSpPr>
        <p:spPr>
          <a:xfrm>
            <a:off x="539640" y="90792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Rectangle 10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84" name="Object 9"/>
          <p:cNvGraphicFramePr/>
          <p:nvPr/>
        </p:nvGraphicFramePr>
        <p:xfrm>
          <a:off x="611280" y="1341360"/>
          <a:ext cx="8221680" cy="4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341360"/>
                    <a:ext cx="822168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Rectangle 12"/>
          <p:cNvSpPr/>
          <p:nvPr/>
        </p:nvSpPr>
        <p:spPr>
          <a:xfrm>
            <a:off x="0" y="27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87" name="Object 11"/>
          <p:cNvGraphicFramePr/>
          <p:nvPr/>
        </p:nvGraphicFramePr>
        <p:xfrm>
          <a:off x="2195640" y="2276640"/>
          <a:ext cx="3671640" cy="2909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95640" y="2276640"/>
                    <a:ext cx="3671640" cy="29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Rectangle 13"/>
          <p:cNvSpPr/>
          <p:nvPr/>
        </p:nvSpPr>
        <p:spPr>
          <a:xfrm>
            <a:off x="2588400" y="5477400"/>
            <a:ext cx="306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-Аденозил-метионин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2T15:13:40Z</dcterms:created>
  <dc:creator>Markin</dc:creator>
  <dc:description/>
  <dc:language>en-US</dc:language>
  <cp:lastModifiedBy>Admin</cp:lastModifiedBy>
  <dcterms:modified xsi:type="dcterms:W3CDTF">2012-03-28T13:30:19Z</dcterms:modified>
  <cp:revision>67</cp:revision>
  <dc:subject/>
  <dc:title>Биологический катализ. Ферменты </dc:title>
</cp:coreProperties>
</file>